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6640" y="1749600"/>
            <a:ext cx="829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R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ADIO-TELEPHON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CEDURE AND PM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MARINE RADI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WORDS AND W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PRO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9244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404"/>
                </a:solidFill>
                <a:latin typeface="Times New Roman"/>
              </a:rPr>
              <a:t>A.  PREVENTIVE MAINTENANCE CHECK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404"/>
                </a:solidFill>
                <a:latin typeface="Times New Roman"/>
              </a:rPr>
              <a:t>B.  DA FORM 24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404"/>
                </a:solidFill>
                <a:latin typeface="Times New Roman"/>
              </a:rPr>
              <a:t>C.  COLUMN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404"/>
                </a:solidFill>
                <a:latin typeface="Times New Roman"/>
              </a:rPr>
              <a:t>D.  DISPOSITION OF DA FORM 24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404"/>
                </a:solidFill>
                <a:latin typeface="Times New Roman"/>
              </a:rPr>
              <a:t>1.  RADIO TECHNICAL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171640" y="651528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RADIOS AND THE FREQUEN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TALK ON A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ESS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SSEL BRIDGE-TO-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ON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WORDS AND 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M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244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71640" y="651528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MARINE RADIO-TELEPHONE PROCEDURES AND PM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, you will be able to demonstrate knowledge concerning radio-telephone procedures and PMCS for marine radio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FM 55-501 class no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must answer all check on learning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RADIOS AND THE FREQUENC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AN/VRC-4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AN/VRC-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AN/URC-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AN/URC-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TALK ON A 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CORRECT RADIO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FORBIDDEN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HOW TO CALL AND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1.  MAY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2.  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3.  SECU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4.  SILENT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ES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1. 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2.  VESSEL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3.  WHO MAY USE BRIDGE-TO-BRIDGE REDIO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SSEL BRIDGE-TO-BRI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ON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RETAINTION OF THE STATION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2800" y="661356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13T19:43:56Z</cp:lastPrinted>
  <dcterms:modified xsi:type="dcterms:W3CDTF">2004-01-12T22:00:57Z</dcterms:modified>
  <cp:revision>33</cp:revision>
  <dc:subject/>
  <dc:title>INTRODUCTION</dc:title>
</cp:coreProperties>
</file>