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72360" y="651528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25240" y="1749600"/>
            <a:ext cx="622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AZCOM SAFE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RIEFING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ZARD COMMUNICATION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FORMS AND EXPOSURE HAZ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PHYSICAL AND HEALTH HAZ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LLING CHEMICAL HAZ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SAFETY DATA SHEETS (MS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71640" y="651528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171640" y="651528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Learn the health administration, requirements for training in the work plac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, you will be able to demonstrate knowledge of occupational safety and health administration requirements for training in the work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FM 55-501 class notes, and a five questions quiz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must answer all check on learning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ARD COMMUNICATION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HAZARD COMMUNICATION STANDAR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GOAL HAZARD COMMUNICATION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ACTION REQUIRED BY CHEMICAL MANUFACTURES AND IMPO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FORMS AND EXPOSURE HAZ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PHYSICAL HAZ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HEALTH HAZ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THREE BASIC FORMS OF ALL CHEMIC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EXPOSURE RO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 DEGREE OF HAZ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1.  PHYSICAL  HAZARD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2.  FIRE HAZARD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3.  UNSTABLE/REACTIVE CHEMICAL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4.  HEALTH HAZARD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5.  REPRODUCTIVE HAZARD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PHYSICAL AND HEALTH HAZ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1.  THREE BASIC METHODS OF CONTROLLING CHEMICAL HAZARD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2.  ENGINEERING CONTROL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3.  PERSONAL PROTECTIVE EQUIPMENT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4.  ADMINISTRATIVE CONTROL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OLLING CHEMICAL HAZ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 SAFETY DATA SHEETS (MS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GENERAL INFORMATION CONTAINED ON A (MSM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THE FOLLOWING SECTIONS SHOW PHYSICAL HAZARD INFORMATION ON THE MSD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2800" y="661356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29T14:47:49Z</cp:lastPrinted>
  <dcterms:modified xsi:type="dcterms:W3CDTF">2004-01-12T21:55:18Z</dcterms:modified>
  <cp:revision>36</cp:revision>
  <dc:subject/>
  <dc:title>INTRODUCTION</dc:title>
</cp:coreProperties>
</file>