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4d4d"/>
                </a:solidFill>
                <a:latin typeface="Times New Roman"/>
              </a:rPr>
              <a:t>WELCOME TO THE </a:t>
            </a:r>
            <a:r>
              <a:rPr b="1" lang="en-US" sz="6600" spc="-1" strike="noStrike">
                <a:solidFill>
                  <a:srgbClr val="4d4d4d"/>
                </a:solidFill>
                <a:latin typeface="Times New Roman"/>
              </a:rPr>
              <a:t>88K10 </a:t>
            </a:r>
            <a:r>
              <a:rPr b="1" lang="en-US" sz="6000" spc="-1" strike="noStrike">
                <a:solidFill>
                  <a:srgbClr val="4d4d4d"/>
                </a:solidFill>
                <a:latin typeface="Times New Roman"/>
              </a:rPr>
              <a:t>WATERCRAFT OPERATORS COUR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6320" y="518112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001000" y="57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7724880" cy="68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15080" y="6140520"/>
            <a:ext cx="2424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69840" y="65152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STUDENT PREPARATION</a:t>
            </a:r>
            <a:br>
              <a:rPr sz="6000"/>
            </a:b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HANDOU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F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STUDENT REQU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INF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STUDENT REQU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STUDY H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de0000"/>
                </a:solidFill>
                <a:uFillTx/>
                <a:latin typeface="Times New Roman"/>
              </a:rPr>
              <a:t>COUNSELING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POLICY BR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DULT BASIC EDUCATION (TABE) TEST REME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0RMAL STUDY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D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ff03"/>
                </a:solidFill>
                <a:latin typeface="Times New Roman"/>
              </a:rPr>
              <a:t>MINIMUM GRADE REQUIRED:  70% IN ALL SUBJECT ARE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ff03"/>
                </a:solidFill>
                <a:latin typeface="Times New Roman"/>
              </a:rPr>
              <a:t>REQUIREMENTS FOR EE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POLICY BR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MATERI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ADMINISTERING PROCEDURES (SIGNING FOR MATERIAL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Times New Roman"/>
              </a:rPr>
              <a:t>POLICY BR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PROPER CARE OF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RETURN OF MATERI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0404"/>
                </a:solidFill>
                <a:latin typeface="Times New Roman"/>
              </a:rPr>
              <a:t>*GRADU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COMPLE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GRADE REQUIRED 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 FOR M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39960" y="66135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1b1b1"/>
            </a:gs>
            <a:gs pos="50000">
              <a:srgbClr val="ffffff"/>
            </a:gs>
            <a:gs pos="100000">
              <a:srgbClr val="b1b1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ff03"/>
                </a:solidFill>
                <a:latin typeface="Times New Roman"/>
              </a:rPr>
              <a:t>CHECK ON LEARN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ERE IS THE BREAK AR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UNIFORM WILL BE WORN FOR      GRAD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O IS 1ST IN YOUR ACADEMIC  CHAIN OF COMM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1b1b1"/>
            </a:gs>
            <a:gs pos="50000">
              <a:srgbClr val="ffffff"/>
            </a:gs>
            <a:gs pos="100000">
              <a:srgbClr val="b1b1b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ff03"/>
                </a:solidFill>
                <a:latin typeface="Times New Roman"/>
              </a:rPr>
              <a:t>CHECK ON LEARN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HOW MANY RETAKES ARE ALLOWED ON THE END OF COURSE EX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HOW MANY RETAKES ARE ALLOWED ON THE OTHER EX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AT ARE THE REQIUREMENTS FOR THE DISTINGUISHED GRADU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BREAK TIME FOR ALL!!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98720" y="1828800"/>
          <a:ext cx="694836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28800"/>
                    <a:ext cx="694836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169480" y="6515280"/>
            <a:ext cx="8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PROCESSING/ORIEN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I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WELCOME YOU THE STUDENT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FAMILIARIZE YOURSEL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Times New Roman"/>
              </a:rPr>
              <a:t>WITH THE POLICIES AND PROCEDURES TO BE FOLLOWED THROUGHOUT THIS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169840" y="65152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909"/>
                </a:solidFill>
                <a:uFillTx/>
                <a:latin typeface="Times New Roman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VERVIEW OF THE 88K1O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ASSROOM S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CADEMIC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 OF EV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ERTIFICATION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SSUE COURSE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69840" y="65152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e00"/>
                </a:solidFill>
                <a:latin typeface="Times New Roman"/>
              </a:rPr>
              <a:t>ACTION:  After this lesson , you the student will demonstrate knowledge regarding the policies and procedures governing the conduct of the cour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69840" y="65152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:  Given use of class notes, student handout and a six question qui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S:  To receive a GO for this lesson, you the student must answer all check on learning questions correct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69840" y="65152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COUR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PARKING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CLASS HO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BREAK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FOOD AND DRINK- WHERE AND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0320" y="6613560"/>
            <a:ext cx="99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COUR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SMOKING A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MILITARY COURTES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DRESS 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COFFEE F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PHON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CLEANUP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Times New Roman"/>
              </a:rPr>
              <a:t>PROFA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40320" y="6613560"/>
            <a:ext cx="99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ADEMIC PROCEDUR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ACADEMIC CHAI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1. ACADEMIC CHAIN OF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2. CLASS COMMANDER-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3. ATTA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A. ARSAD- FOR EXCUSED ABS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63de8"/>
                </a:solidFill>
                <a:latin typeface="Times New Roman"/>
              </a:rPr>
              <a:t>B. SICK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69840" y="65152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SCHEDU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WHERE TO B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WHEN TO BE THERE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4029"/>
                </a:solidFill>
                <a:latin typeface="Times New Roman"/>
              </a:rPr>
              <a:t>STUDY ASSIGN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96320" y="57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169840" y="651528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88K12E01vg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3T00:43:26Z</dcterms:created>
  <dc:creator>LARRY ANTONIO PARSON</dc:creator>
  <dc:description/>
  <dc:language>en-US</dc:language>
  <cp:lastModifiedBy>jeanj1</cp:lastModifiedBy>
  <cp:lastPrinted>2000-06-28T14:22:01Z</cp:lastPrinted>
  <dcterms:modified xsi:type="dcterms:W3CDTF">2000-06-28T14:24:55Z</dcterms:modified>
  <cp:revision>24</cp:revision>
  <dc:subject/>
  <dc:title>INTRODUCTION</dc:title>
</cp:coreProperties>
</file>