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3" name="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4" name="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7" name="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1760" y="6039000"/>
              <a:ext cx="444600" cy="444240"/>
              <a:chOff x="131760" y="6039000"/>
              <a:chExt cx="444600" cy="444240"/>
            </a:xfrm>
          </p:grpSpPr>
          <p:sp>
            <p:nvSpPr>
              <p:cNvPr id="10" name=""/>
              <p:cNvSpPr/>
              <p:nvPr/>
            </p:nvSpPr>
            <p:spPr>
              <a:xfrm>
                <a:off x="131760" y="6039000"/>
                <a:ext cx="444600" cy="444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13" name="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16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19" name="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2" name="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262560" y="649116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5" name="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28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31" name="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4" name="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911240" y="158760"/>
              <a:ext cx="368280" cy="368280"/>
              <a:chOff x="1911240" y="158760"/>
              <a:chExt cx="368280" cy="368280"/>
            </a:xfrm>
          </p:grpSpPr>
          <p:sp>
            <p:nvSpPr>
              <p:cNvPr id="37" name=""/>
              <p:cNvSpPr/>
              <p:nvPr/>
            </p:nvSpPr>
            <p:spPr>
              <a:xfrm>
                <a:off x="191124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995480" y="2430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70200" y="6515280"/>
            <a:ext cx="85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A03vg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7724880" cy="68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868040" y="2362320"/>
            <a:ext cx="52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HORT SPL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7521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PROPER WAY TO JOIN LINES TOGETHER USING A SHORT SPLICE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6320" y="5181120"/>
            <a:ext cx="8991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001000" y="572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7724880" cy="6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15080" y="6140520"/>
            <a:ext cx="2424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A03vg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8760" y="0"/>
            <a:ext cx="717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ERMINAL LEARNING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e00"/>
                </a:solidFill>
                <a:latin typeface="Times New Roman"/>
              </a:rPr>
              <a:t>ACTION:  After this lesson, you will be able to demonstrate his/her knowledge of proper line splicing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A03vg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TIONS:  Given FM 55-501 and five check on learning questi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NDARDS:  To receive a “GO” for this lesson, you the student answer all check-on-learning questions correct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A03vg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L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SHORT SP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PERFORMING THE TU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COMPLEING THE SP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A03vg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240" y="110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SHORT SP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PERFORMING THE TU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COMPLEING THE SP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A03vg#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BREAK TIME FOR ALL!!!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98720" y="1828800"/>
          <a:ext cx="6948360" cy="39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828800"/>
                    <a:ext cx="694836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A03vg#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3T00:43:26Z</dcterms:created>
  <dc:creator>LARRY ANTONIO PARSON</dc:creator>
  <dc:description/>
  <dc:language>en-US</dc:language>
  <cp:lastModifiedBy>jeanj1</cp:lastModifiedBy>
  <cp:lastPrinted>1996-06-05T23:25:30Z</cp:lastPrinted>
  <dcterms:modified xsi:type="dcterms:W3CDTF">2004-01-12T19:28:18Z</dcterms:modified>
  <cp:revision>40</cp:revision>
  <dc:subject/>
  <dc:title>INTRODUCTION</dc:title>
</cp:coreProperties>
</file>