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4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3400" y="2362320"/>
            <a:ext cx="42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YE SPL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69840" y="6515280"/>
            <a:ext cx="88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4vg#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PROPER WAY TO CONSTRUCT AN EYE SPLICE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4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, you will be able to demonstrate his/her knowledge of Eye Splic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4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 and five check on learning ques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answer all check-on-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4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YE SP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MATERIALS 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EQUIPMENT:  SHARP KN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ATERIALS:  TWO PIECES OF LINE, SAILING TWINE, TAPE AND MARLINE SP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4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2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YE SP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THE EYE SP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 OF 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60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2560" y="62485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88K12B04vg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 AN EYE SP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AYING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ING THE SAIL TW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NUMBER ONE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SIZE OF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ING THE WORKING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CKING THE #2 AND 3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6248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88K12B04vg#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ING TWO MORE ROUNDS TO COMPLETE THE EYE SP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DING THE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6248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88K12B04vg#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AND EQUI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ON OF AN EYE SP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170200" y="65152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B04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27T14:53:28Z</cp:lastPrinted>
  <dcterms:modified xsi:type="dcterms:W3CDTF">2004-01-12T19:30:54Z</dcterms:modified>
  <cp:revision>45</cp:revision>
  <dc:subject/>
  <dc:title>INTRODUCTION</dc:title>
</cp:coreProperties>
</file>