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6480" y="6480"/>
            <a:ext cx="9118440" cy="6832440"/>
            <a:chOff x="6480" y="6480"/>
            <a:chExt cx="9118440" cy="6832440"/>
          </a:xfrm>
        </p:grpSpPr>
        <p:grpSp>
          <p:nvGrpSpPr>
            <p:cNvPr id="3" name=""/>
            <p:cNvGrpSpPr/>
            <p:nvPr/>
          </p:nvGrpSpPr>
          <p:grpSpPr>
            <a:xfrm>
              <a:off x="6480" y="5340240"/>
              <a:ext cx="672840" cy="673200"/>
              <a:chOff x="6480" y="5340240"/>
              <a:chExt cx="672840" cy="673200"/>
            </a:xfrm>
          </p:grpSpPr>
          <p:sp>
            <p:nvSpPr>
              <p:cNvPr id="4" name=""/>
              <p:cNvSpPr/>
              <p:nvPr/>
            </p:nvSpPr>
            <p:spPr>
              <a:xfrm>
                <a:off x="6480" y="5340240"/>
                <a:ext cx="672840" cy="673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58760" y="5492880"/>
                <a:ext cx="100080" cy="997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" name=""/>
            <p:cNvGrpSpPr/>
            <p:nvPr/>
          </p:nvGrpSpPr>
          <p:grpSpPr>
            <a:xfrm>
              <a:off x="539640" y="5873760"/>
              <a:ext cx="292320" cy="291960"/>
              <a:chOff x="539640" y="5873760"/>
              <a:chExt cx="292320" cy="291960"/>
            </a:xfrm>
          </p:grpSpPr>
          <p:sp>
            <p:nvSpPr>
              <p:cNvPr id="7" name=""/>
              <p:cNvSpPr/>
              <p:nvPr/>
            </p:nvSpPr>
            <p:spPr>
              <a:xfrm>
                <a:off x="539640" y="5873760"/>
                <a:ext cx="292320" cy="2919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06600" y="5940360"/>
                <a:ext cx="37800" cy="38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131760" y="6039000"/>
              <a:ext cx="444600" cy="444240"/>
              <a:chOff x="131760" y="6039000"/>
              <a:chExt cx="444600" cy="444240"/>
            </a:xfrm>
          </p:grpSpPr>
          <p:sp>
            <p:nvSpPr>
              <p:cNvPr id="10" name=""/>
              <p:cNvSpPr/>
              <p:nvPr/>
            </p:nvSpPr>
            <p:spPr>
              <a:xfrm>
                <a:off x="131760" y="6039000"/>
                <a:ext cx="444600" cy="4442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33280" y="6140520"/>
                <a:ext cx="61920" cy="619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" name=""/>
            <p:cNvGrpSpPr/>
            <p:nvPr/>
          </p:nvGrpSpPr>
          <p:grpSpPr>
            <a:xfrm>
              <a:off x="2476440" y="6470640"/>
              <a:ext cx="368280" cy="368280"/>
              <a:chOff x="2476440" y="6470640"/>
              <a:chExt cx="368280" cy="368280"/>
            </a:xfrm>
          </p:grpSpPr>
          <p:sp>
            <p:nvSpPr>
              <p:cNvPr id="13" name=""/>
              <p:cNvSpPr/>
              <p:nvPr/>
            </p:nvSpPr>
            <p:spPr>
              <a:xfrm>
                <a:off x="2476440" y="647064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560680" y="6554880"/>
                <a:ext cx="50760" cy="50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6480" y="4425840"/>
              <a:ext cx="368280" cy="368280"/>
              <a:chOff x="6480" y="4425840"/>
              <a:chExt cx="368280" cy="368280"/>
            </a:xfrm>
          </p:grpSpPr>
          <p:sp>
            <p:nvSpPr>
              <p:cNvPr id="16" name=""/>
              <p:cNvSpPr/>
              <p:nvPr/>
            </p:nvSpPr>
            <p:spPr>
              <a:xfrm>
                <a:off x="6480" y="442584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90360" y="4510080"/>
                <a:ext cx="50760" cy="50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6559560" y="6102360"/>
              <a:ext cx="673200" cy="673200"/>
              <a:chOff x="6559560" y="6102360"/>
              <a:chExt cx="673200" cy="673200"/>
            </a:xfrm>
          </p:grpSpPr>
          <p:sp>
            <p:nvSpPr>
              <p:cNvPr id="19" name=""/>
              <p:cNvSpPr/>
              <p:nvPr/>
            </p:nvSpPr>
            <p:spPr>
              <a:xfrm>
                <a:off x="6559560" y="6102360"/>
                <a:ext cx="673200" cy="673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6711840" y="6254640"/>
                <a:ext cx="100080" cy="100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6178680" y="6407280"/>
              <a:ext cx="368280" cy="368280"/>
              <a:chOff x="6178680" y="6407280"/>
              <a:chExt cx="368280" cy="368280"/>
            </a:xfrm>
          </p:grpSpPr>
          <p:sp>
            <p:nvSpPr>
              <p:cNvPr id="22" name=""/>
              <p:cNvSpPr/>
              <p:nvPr/>
            </p:nvSpPr>
            <p:spPr>
              <a:xfrm>
                <a:off x="6178680" y="640728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6262560" y="6491160"/>
                <a:ext cx="50760" cy="50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" name=""/>
            <p:cNvGrpSpPr/>
            <p:nvPr/>
          </p:nvGrpSpPr>
          <p:grpSpPr>
            <a:xfrm>
              <a:off x="7245360" y="6102360"/>
              <a:ext cx="368280" cy="368280"/>
              <a:chOff x="7245360" y="6102360"/>
              <a:chExt cx="368280" cy="368280"/>
            </a:xfrm>
          </p:grpSpPr>
          <p:sp>
            <p:nvSpPr>
              <p:cNvPr id="25" name=""/>
              <p:cNvSpPr/>
              <p:nvPr/>
            </p:nvSpPr>
            <p:spPr>
              <a:xfrm>
                <a:off x="7245360" y="610236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329600" y="6186600"/>
                <a:ext cx="50760" cy="50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" name=""/>
            <p:cNvGrpSpPr/>
            <p:nvPr/>
          </p:nvGrpSpPr>
          <p:grpSpPr>
            <a:xfrm>
              <a:off x="8604360" y="1808280"/>
              <a:ext cx="520560" cy="520560"/>
              <a:chOff x="8604360" y="1808280"/>
              <a:chExt cx="520560" cy="520560"/>
            </a:xfrm>
          </p:grpSpPr>
          <p:sp>
            <p:nvSpPr>
              <p:cNvPr id="28" name=""/>
              <p:cNvSpPr/>
              <p:nvPr/>
            </p:nvSpPr>
            <p:spPr>
              <a:xfrm>
                <a:off x="8604360" y="1808280"/>
                <a:ext cx="520560" cy="520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723160" y="1927080"/>
                <a:ext cx="74880" cy="748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" name=""/>
            <p:cNvGrpSpPr/>
            <p:nvPr/>
          </p:nvGrpSpPr>
          <p:grpSpPr>
            <a:xfrm>
              <a:off x="8693280" y="2521080"/>
              <a:ext cx="215640" cy="215640"/>
              <a:chOff x="8693280" y="2521080"/>
              <a:chExt cx="215640" cy="215640"/>
            </a:xfrm>
          </p:grpSpPr>
          <p:sp>
            <p:nvSpPr>
              <p:cNvPr id="31" name=""/>
              <p:cNvSpPr/>
              <p:nvPr/>
            </p:nvSpPr>
            <p:spPr>
              <a:xfrm>
                <a:off x="8693280" y="25210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44040" y="2571840"/>
                <a:ext cx="25200" cy="25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" name=""/>
            <p:cNvGrpSpPr/>
            <p:nvPr/>
          </p:nvGrpSpPr>
          <p:grpSpPr>
            <a:xfrm>
              <a:off x="1378080" y="6480"/>
              <a:ext cx="520560" cy="520560"/>
              <a:chOff x="1378080" y="6480"/>
              <a:chExt cx="520560" cy="520560"/>
            </a:xfrm>
          </p:grpSpPr>
          <p:sp>
            <p:nvSpPr>
              <p:cNvPr id="34" name=""/>
              <p:cNvSpPr/>
              <p:nvPr/>
            </p:nvSpPr>
            <p:spPr>
              <a:xfrm>
                <a:off x="1378080" y="6480"/>
                <a:ext cx="520560" cy="520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495440" y="123840"/>
                <a:ext cx="76320" cy="76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" name=""/>
            <p:cNvGrpSpPr/>
            <p:nvPr/>
          </p:nvGrpSpPr>
          <p:grpSpPr>
            <a:xfrm>
              <a:off x="1911240" y="158760"/>
              <a:ext cx="368280" cy="368280"/>
              <a:chOff x="1911240" y="158760"/>
              <a:chExt cx="368280" cy="368280"/>
            </a:xfrm>
          </p:grpSpPr>
          <p:sp>
            <p:nvSpPr>
              <p:cNvPr id="37" name=""/>
              <p:cNvSpPr/>
              <p:nvPr/>
            </p:nvSpPr>
            <p:spPr>
              <a:xfrm>
                <a:off x="1911240" y="15876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995480" y="243000"/>
                <a:ext cx="50760" cy="50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752120"/>
            <a:ext cx="716292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d4d4d"/>
                </a:solidFill>
                <a:latin typeface="Times New Roman"/>
              </a:rPr>
              <a:t>WELCOME TO THE </a:t>
            </a:r>
            <a:r>
              <a:rPr b="1" lang="en-US" sz="6600" spc="-1" strike="noStrike">
                <a:solidFill>
                  <a:srgbClr val="4d4d4d"/>
                </a:solidFill>
                <a:latin typeface="Times New Roman"/>
              </a:rPr>
              <a:t>88K10 </a:t>
            </a:r>
            <a:r>
              <a:rPr b="1" lang="en-US" sz="6000" spc="-1" strike="noStrike">
                <a:solidFill>
                  <a:srgbClr val="4d4d4d"/>
                </a:solidFill>
                <a:latin typeface="Times New Roman"/>
              </a:rPr>
              <a:t>WATERCRAFT OPERATORS COURS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76320" y="5181120"/>
            <a:ext cx="899136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8001000" y="5724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71360" y="609480"/>
            <a:ext cx="7724880" cy="68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715080" y="6140520"/>
            <a:ext cx="24242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170200" y="6515280"/>
            <a:ext cx="823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88K11A01vg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4e4e4"/>
            </a:gs>
            <a:gs pos="50000">
              <a:srgbClr val="ffffff"/>
            </a:gs>
            <a:gs pos="100000">
              <a:srgbClr val="e4e4e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000000"/>
                </a:solidFill>
                <a:uFillTx/>
                <a:latin typeface="Times New Roman"/>
              </a:rPr>
              <a:t>SCHEDUL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523880" y="1600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44029"/>
                </a:solidFill>
                <a:latin typeface="Times New Roman"/>
              </a:rPr>
              <a:t>STUDENT PREPARATION</a:t>
            </a:r>
            <a:br>
              <a:rPr sz="6000"/>
            </a:br>
            <a:r>
              <a:rPr b="1" lang="en-US" sz="6000" spc="-1" strike="noStrike">
                <a:solidFill>
                  <a:srgbClr val="f44029"/>
                </a:solidFill>
                <a:latin typeface="Times New Roman"/>
              </a:rPr>
              <a:t>HANDOU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996320" y="572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8169840" y="6515280"/>
            <a:ext cx="887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88K11A01vg#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295280" y="1980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ae00"/>
                </a:solidFill>
                <a:latin typeface="Times New Roman"/>
              </a:rPr>
              <a:t>FOR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ae00"/>
                </a:solidFill>
                <a:latin typeface="Times New Roman"/>
              </a:rPr>
              <a:t>STUDENT REQUES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ae00"/>
                </a:solidFill>
                <a:latin typeface="Times New Roman"/>
              </a:rPr>
              <a:t>INFOR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ae00"/>
                </a:solidFill>
                <a:latin typeface="Times New Roman"/>
              </a:rPr>
              <a:t>STUDENT REQUES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ae00"/>
                </a:solidFill>
                <a:latin typeface="Times New Roman"/>
              </a:rPr>
              <a:t>STUDY HAL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ae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de0000"/>
                </a:solidFill>
                <a:uFillTx/>
                <a:latin typeface="Times New Roman"/>
              </a:rPr>
              <a:t>COUNSELING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996320" y="572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169840" y="6515280"/>
            <a:ext cx="887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88K11A01vg#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d4d4d"/>
                </a:solidFill>
                <a:latin typeface="Times New Roman"/>
              </a:rPr>
              <a:t>POLICY BRIE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DULT BASIC EDUCATION (TABE) TEST REMED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FAIL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0RMAL STUDY PURPO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ND 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6ff03"/>
                </a:solidFill>
                <a:latin typeface="Times New Roman"/>
              </a:rPr>
              <a:t>MINIMUM GRADE REQUIRED:  70% IN ALL SUBJECT AREA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6ff03"/>
                </a:solidFill>
                <a:latin typeface="Times New Roman"/>
              </a:rPr>
              <a:t>REQUIREMENTS FOR EEO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996320" y="572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8169840" y="6515280"/>
            <a:ext cx="887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88K11A01vg#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d4d4d"/>
                </a:solidFill>
                <a:latin typeface="Times New Roman"/>
              </a:rPr>
              <a:t>POLICY BRIE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a0404"/>
                </a:solidFill>
                <a:latin typeface="Times New Roman"/>
              </a:rPr>
              <a:t>*MATERIAL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a0404"/>
                </a:solidFill>
                <a:latin typeface="Times New Roman"/>
              </a:rPr>
              <a:t>*ADMINISTERING PROCEDURES (SIGNING FOR MATERIALS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996320" y="572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8169840" y="6515280"/>
            <a:ext cx="887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88K11A01vg#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d4d4d"/>
                </a:solidFill>
                <a:latin typeface="Times New Roman"/>
              </a:rPr>
              <a:t>POLICY BRIE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a0404"/>
                </a:solidFill>
                <a:latin typeface="Times New Roman"/>
              </a:rPr>
              <a:t>*PROPER CARE OF BOOK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a0404"/>
                </a:solidFill>
                <a:latin typeface="Times New Roman"/>
              </a:rPr>
              <a:t>*RETURN OF MATERIAL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a0404"/>
                </a:solidFill>
                <a:latin typeface="Times New Roman"/>
              </a:rPr>
              <a:t>*GRADU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996320" y="572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8169840" y="6515280"/>
            <a:ext cx="887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88K11A01vg#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RSE COMPLE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IMUM GRADE REQUIRED 7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MENT FOR M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40320" y="6613560"/>
            <a:ext cx="1067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88K11A01vg#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1b1b1"/>
            </a:gs>
            <a:gs pos="50000">
              <a:srgbClr val="ffffff"/>
            </a:gs>
            <a:gs pos="100000">
              <a:srgbClr val="b1b1b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6ff03"/>
                </a:solidFill>
                <a:latin typeface="Times New Roman"/>
              </a:rPr>
              <a:t>CHECK ON LEARN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996320" y="572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8169840" y="6515280"/>
            <a:ext cx="887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88K11A01vg#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WHERE IS THE BREAK AR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WHAT UNIFORM WILL BE WORN FOR      GRADU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WHO IS 1ST IN YOUR ACADEMIC  CHAIN OF COMMAN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1b1b1"/>
            </a:gs>
            <a:gs pos="50000">
              <a:srgbClr val="ffffff"/>
            </a:gs>
            <a:gs pos="100000">
              <a:srgbClr val="b1b1b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6ff03"/>
                </a:solidFill>
                <a:latin typeface="Times New Roman"/>
              </a:rPr>
              <a:t>CHECK ON LEARN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996320" y="572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8169840" y="6515280"/>
            <a:ext cx="887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88K11A01vg#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HOW MANY RETAKES ARE ALLOWED ON THE END OF COURSE EXA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 HOW MANY RETAKES ARE ALLOWED ON THE OTHER EXA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 WHAT ARE THE REQIUREMENTS FOR THE DISTINGUISHED GRADUA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000000"/>
                </a:solidFill>
                <a:latin typeface="Times New Roman"/>
              </a:rPr>
              <a:t>BREAK TIME FOR ALL!!!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098720" y="1828800"/>
          <a:ext cx="6948360" cy="395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8720" y="1828800"/>
                    <a:ext cx="6948360" cy="39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7996320" y="572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8169840" y="6515280"/>
            <a:ext cx="887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88K11A01vg#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PROCESSING/ORIENTA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523880" y="1219320"/>
            <a:ext cx="647712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Times New Roman"/>
              </a:rPr>
              <a:t>IS 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Times New Roman"/>
              </a:rPr>
              <a:t>WELCOME YOU THE STUDENT 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Times New Roman"/>
              </a:rPr>
              <a:t>FAMILIARIZE YOURSEL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Times New Roman"/>
              </a:rPr>
              <a:t>WITH THE POLICIES AND PROCEDURES TO BE FOLLOWED THROUGHOUT THIS COUR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996320" y="572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170200" y="6515280"/>
            <a:ext cx="823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88K11A01vg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909"/>
                </a:solidFill>
                <a:uFillTx/>
                <a:latin typeface="Times New Roman"/>
              </a:rPr>
              <a:t>TERMINAL LEARNING OBJ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OVERVIEW OF THE 88K1O COUR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LASSROOM SO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CADEMIC PROCED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EVIEW OF EVAL PL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ERTIFICATION PROCED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SSUE COURSE MATERI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996320" y="572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8170200" y="6515280"/>
            <a:ext cx="823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88K11A01vg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ae00"/>
                </a:solidFill>
                <a:latin typeface="Times New Roman"/>
              </a:rPr>
              <a:t>ACTION:  After this lesson , you the student will demonstrate knowledge regarding the policies and procedures governing the conduct of the cours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996320" y="572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8170200" y="6515280"/>
            <a:ext cx="823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88K11A01vg#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DITIONS:  Given use of class notes, student handout and a six question quiz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ANDARDS:  To receive a GO for this lesson, you the student must answer all check on learning questions correctl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996320" y="572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8170200" y="6515280"/>
            <a:ext cx="823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88K11A01vg#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ff00"/>
                </a:solidFill>
                <a:latin typeface="Times New Roman"/>
              </a:rPr>
              <a:t>COURS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e00"/>
                </a:solidFill>
                <a:latin typeface="Times New Roman"/>
              </a:rPr>
              <a:t>PARKING ARE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e00"/>
                </a:solidFill>
                <a:latin typeface="Times New Roman"/>
              </a:rPr>
              <a:t>CLASS HOU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e00"/>
                </a:solidFill>
                <a:latin typeface="Times New Roman"/>
              </a:rPr>
              <a:t>BREAK ARE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e00"/>
                </a:solidFill>
                <a:latin typeface="Times New Roman"/>
              </a:rPr>
              <a:t>FOOD AND DRINK- WHERE AND WH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140680" y="6613560"/>
            <a:ext cx="100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88K11A01vg#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ff00"/>
                </a:solidFill>
                <a:latin typeface="Times New Roman"/>
              </a:rPr>
              <a:t>COURS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e00"/>
                </a:solidFill>
                <a:latin typeface="Times New Roman"/>
              </a:rPr>
              <a:t>SMOKING ARE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e00"/>
                </a:solidFill>
                <a:latin typeface="Times New Roman"/>
              </a:rPr>
              <a:t>MILITARY CUTERS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e00"/>
                </a:solidFill>
                <a:latin typeface="Times New Roman"/>
              </a:rPr>
              <a:t>DRESS CO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e00"/>
                </a:solidFill>
                <a:latin typeface="Times New Roman"/>
              </a:rPr>
              <a:t>COFFEE FU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e00"/>
                </a:solidFill>
                <a:latin typeface="Times New Roman"/>
              </a:rPr>
              <a:t>PHONE NUMB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e00"/>
                </a:solidFill>
                <a:latin typeface="Times New Roman"/>
              </a:rPr>
              <a:t>CLEANUP PROCED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e00"/>
                </a:solidFill>
                <a:latin typeface="Times New Roman"/>
              </a:rPr>
              <a:t>PROFAN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40680" y="6613560"/>
            <a:ext cx="100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88K11A01vg#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CADEMIC PROCEDURE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Academic Chai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792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3de8"/>
                </a:solidFill>
                <a:latin typeface="Times New Roman"/>
              </a:rPr>
              <a:t>1. ACADEMIC CHAIN OF COM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3de8"/>
                </a:solidFill>
                <a:latin typeface="Times New Roman"/>
              </a:rPr>
              <a:t>2. CLASS COMMANDER- DUTIES AND RESPONSI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3de8"/>
                </a:solidFill>
                <a:latin typeface="Times New Roman"/>
              </a:rPr>
              <a:t>3. ATTA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3de8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63de8"/>
                </a:solidFill>
                <a:latin typeface="Times New Roman"/>
              </a:rPr>
              <a:t>A. ARSAD- FOR EXCUSED ABS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3de8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63de8"/>
                </a:solidFill>
                <a:latin typeface="Times New Roman"/>
              </a:rPr>
              <a:t>B. SICK LE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996320" y="572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8170200" y="6515280"/>
            <a:ext cx="823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88K11A01vg#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4e4e4"/>
            </a:gs>
            <a:gs pos="50000">
              <a:srgbClr val="ffffff"/>
            </a:gs>
            <a:gs pos="100000">
              <a:srgbClr val="e4e4e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000000"/>
                </a:solidFill>
                <a:uFillTx/>
                <a:latin typeface="Times New Roman"/>
              </a:rPr>
              <a:t>SCHEDUL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523880" y="1600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44029"/>
                </a:solidFill>
                <a:latin typeface="Times New Roman"/>
              </a:rPr>
              <a:t>WHERE TO BE,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44029"/>
                </a:solidFill>
                <a:latin typeface="Times New Roman"/>
              </a:rPr>
              <a:t>WHEN TO BE THERE AN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44029"/>
                </a:solidFill>
                <a:latin typeface="Times New Roman"/>
              </a:rPr>
              <a:t>STUDY ASSIGNME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996320" y="572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8170200" y="6515280"/>
            <a:ext cx="823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88K11A01vg#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13T00:43:26Z</dcterms:created>
  <dc:creator>LARRY ANTONIO PARSON</dc:creator>
  <dc:description/>
  <dc:language>en-US</dc:language>
  <cp:lastModifiedBy>jeanj1</cp:lastModifiedBy>
  <cp:lastPrinted>2000-06-12T19:28:24Z</cp:lastPrinted>
  <dcterms:modified xsi:type="dcterms:W3CDTF">2000-06-12T19:30:29Z</dcterms:modified>
  <cp:revision>23</cp:revision>
  <dc:subject/>
  <dc:title>INTRODUCTION</dc:title>
</cp:coreProperties>
</file>