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87040" y="1749600"/>
            <a:ext cx="549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IPBOAR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RE FIGH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CONTAINED BREATHING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BREATHING APPAR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O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SELF-GENERATING (CANITER TYPE) O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OPERATING CYCLE ( CANISTER-TYPE UN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  SELF-CONTAINED DEMAND TYPE BREATHING APPARATUS (SCOTT AIR PAC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  LIFE LINE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9244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HIPBOARD FIRE FIGH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OF FIRE/EXTENGUISH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NGUISHING METHOD AND EXTINGUISH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FIRE EXTENGU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CONTAINED BREATHING APPAR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171640" y="651528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IDENTIFY DIFFERENT CLASSES OF FIRE AND THE PROPER WAY TO EXTINGUISH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, you will be able to demonstrate knowledge concerning shipboard fire fighting and the nature of fi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M 55-501 class no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answer all check on 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SHIPBOARD FIRE F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CHEMISTRY OF FI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THE FIRE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FUEL AND FUEL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 OF FIRE/EXTENGUISHING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LASSES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EXTENGUISH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TYPES OF EXTENGUISH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A.  FIRE 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B.  WATER (COOLING AG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C. 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E.  USES OF DRY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INGUISHING METHOD AND EXTINGUISHING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F.  LIMITATIONS ON THE USE OF DRY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G.  DRY POW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Times New Roman"/>
              </a:rPr>
              <a:t>H.  HALOGENATED EXTINGUISHING AGENT (HAL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ABLE FIRE EXTENGUIS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USING FIRE EXTINGU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FACTS ABOUT PORTABLE FIRE EXTINGU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CLASSIFICATION OF FIRE EXTENGU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TEST AND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  PORTABLE P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  H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 FIRE HOSES, NOZZLES, AND APP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2800" y="6613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13T19:43:56Z</cp:lastPrinted>
  <dcterms:modified xsi:type="dcterms:W3CDTF">2004-01-12T21:46:19Z</dcterms:modified>
  <cp:revision>31</cp:revision>
  <dc:subject/>
  <dc:title>INTRODUCTION</dc:title>
</cp:coreProperties>
</file>