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6040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620120" y="235080"/>
            <a:ext cx="0" cy="958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 flipH="1">
            <a:off x="221760" y="228600"/>
            <a:ext cx="740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35080" y="9829800"/>
            <a:ext cx="73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419720" y="32767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3886200"/>
            <a:ext cx="0" cy="449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3962520"/>
            <a:ext cx="0" cy="441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67057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24440" y="2957400"/>
            <a:ext cx="3452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UCTOR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1523880"/>
            <a:ext cx="4079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 88K10 PHASEIII (A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98960" y="3870360"/>
            <a:ext cx="77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320040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1960" y="7834320"/>
            <a:ext cx="6378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BY TRAINING DIRECT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 S. ARMY COMBINED ARMED 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 FORT LEE VA.  23801-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72360" y="214200"/>
            <a:ext cx="207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-551-88K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22440" y="3413160"/>
            <a:ext cx="454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61560" y="6234120"/>
            <a:ext cx="2217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T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94200" y="6691320"/>
            <a:ext cx="1385640" cy="138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235080"/>
            <a:ext cx="0" cy="958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95560" y="3429000"/>
          <a:ext cx="609732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5560" y="3429000"/>
                    <a:ext cx="6097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123280" y="2500200"/>
            <a:ext cx="392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CRAFT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65600" y="4552920"/>
            <a:ext cx="272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08T14:56:42Z</dcterms:created>
  <dc:creator>Small Multiuser Computer</dc:creator>
  <dc:description/>
  <dc:language>en-US</dc:language>
  <cp:lastModifiedBy>jeanj1</cp:lastModifiedBy>
  <cp:lastPrinted>2000-05-17T17:48:48Z</cp:lastPrinted>
  <dcterms:modified xsi:type="dcterms:W3CDTF">2004-01-20T14:42:26Z</dcterms:modified>
  <cp:revision>6</cp:revision>
  <dc:subject/>
  <dc:title>No Slide Title</dc:title>
</cp:coreProperties>
</file>