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3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4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7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0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3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19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2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28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1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4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37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4960" y="2438280"/>
            <a:ext cx="580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INE HANDL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ORING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ING MOORING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WING AND CARE OF MOORING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 OF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171640" y="6515280"/>
            <a:ext cx="89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-vg#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BREAK TIME FOR ALL!!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98720" y="1828800"/>
          <a:ext cx="694836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28800"/>
                    <a:ext cx="694836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171640" y="6515280"/>
            <a:ext cx="89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-vg#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7521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LINE HANDL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320" y="518112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01000" y="572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15080" y="6140520"/>
            <a:ext cx="2424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72000" y="6515280"/>
            <a:ext cx="82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-vg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760" y="0"/>
            <a:ext cx="717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00"/>
                </a:solidFill>
                <a:latin typeface="Times New Roman"/>
              </a:rPr>
              <a:t>ACTION:  The students will answer written questions about line handling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172000" y="6515280"/>
            <a:ext cx="82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-vg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TIONS:  Given five questions quiz and class note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ARDS:  To receive a “GO” for this lesson, you the student must answer all five questions correct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172000" y="6515280"/>
            <a:ext cx="82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-vg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ORING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OSE OF MOORING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ORING LINES ARE NUMB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ORING LINES ALSO HAVE N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66135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-vg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NG MOORING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ING HEAVING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ILING THE  HEAVING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ING HEAVING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TH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661356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-vg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ORING LINE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LLING THE SL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ING STOPPER TO BI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ING THE SL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ING STOPPER FOR HO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 LINE 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PPING THE 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56520" y="66135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-vg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WING AND CARE OF MOORING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WING TH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66135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-vg#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E OF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S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F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ZARDS AND DAN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66135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-vg#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3T00:43:26Z</dcterms:created>
  <dc:creator>LARRY ANTONIO PARSON</dc:creator>
  <dc:description/>
  <dc:language>en-US</dc:language>
  <cp:lastModifiedBy>jeanj1</cp:lastModifiedBy>
  <cp:lastPrinted>1996-06-05T23:25:30Z</cp:lastPrinted>
  <dcterms:modified xsi:type="dcterms:W3CDTF">2004-01-12T21:45:07Z</dcterms:modified>
  <cp:revision>48</cp:revision>
  <dc:subject/>
  <dc:title>INTRODUCTION</dc:title>
</cp:coreProperties>
</file>