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D161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6480" y="2362320"/>
            <a:ext cx="877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MPORARY A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MANENT WHIPPI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INSTALLING A TEMPORARY WHIPPING ON A LINE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D16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, you will be able to demonstrate his/her knowledge of basic knots temporary and permanent whipping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D16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M 55-501 and five check on learning ques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answer all check-on-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D16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ORARY WHI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TEMPORARY W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USE OF TEMPORARY W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WHIPPING A 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MAKING A PERMANENT W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D16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2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RY W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A PERMANENT W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D16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D16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27T13:38:27Z</cp:lastPrinted>
  <dcterms:modified xsi:type="dcterms:W3CDTF">2004-01-12T19:22:13Z</dcterms:modified>
  <cp:revision>40</cp:revision>
  <dc:subject/>
  <dc:title>INTRODUCTION</dc:title>
</cp:coreProperties>
</file>