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6040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543800" y="228600"/>
            <a:ext cx="0" cy="958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 flipH="1">
            <a:off x="304920" y="22860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 flipV="1">
            <a:off x="304920" y="9810360"/>
            <a:ext cx="723240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419720" y="32767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3886200"/>
            <a:ext cx="0" cy="4495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3962520"/>
            <a:ext cx="0" cy="441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67057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6040" y="1295280"/>
            <a:ext cx="2608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 88K10D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98960" y="3870360"/>
            <a:ext cx="77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320040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2320" y="6705720"/>
            <a:ext cx="6378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BY TRAINING DIRECT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 S. ARMY COMBINED ARMED 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 FORT LEE VA.  23801-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77640" y="304920"/>
            <a:ext cx="24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-551-88K10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22440" y="3413160"/>
            <a:ext cx="454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0280" y="6553080"/>
            <a:ext cx="2217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T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1385640" cy="1386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5840" y="235080"/>
            <a:ext cx="0" cy="958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19320" y="3886200"/>
          <a:ext cx="609732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3886200"/>
                    <a:ext cx="6097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213640" y="1752480"/>
            <a:ext cx="392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CRAFT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3080" y="5334120"/>
            <a:ext cx="272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08T14:56:42Z</dcterms:created>
  <dc:creator>Small Multiuser Computer</dc:creator>
  <dc:description/>
  <dc:language>en-US</dc:language>
  <cp:lastModifiedBy>jeanj1</cp:lastModifiedBy>
  <cp:lastPrinted>2000-05-19T14:27:40Z</cp:lastPrinted>
  <dcterms:modified xsi:type="dcterms:W3CDTF">2003-12-29T19:42:07Z</dcterms:modified>
  <cp:revision>5</cp:revision>
  <dc:subject/>
  <dc:title>No Slide Title</dc:title>
</cp:coreProperties>
</file>