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72360" y="6515280"/>
            <a:ext cx="146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88K12B07vg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49000" y="1600200"/>
            <a:ext cx="5877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NAVIG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PILOTING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BE ABLE TO IDENTIFY THE EARTH’S SYSTEM OF COORDINATES, DETERMINING DISTANCE, POSITION USING LONGITUDE AND LATITUDE, AND TIME, SPEED AND DISTAN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7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760" y="0"/>
            <a:ext cx="71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After this lesson unit the student will demonstrate his/her knowledge of Navigation (Piloting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7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FM 55-501, five question Check-on-Learning quiz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“GO” for this lesson, you the student must answer all practical exercise with a minimum accuracy of 70%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7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A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SS RO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ES AND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OF THE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S TO NAV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77320" y="6613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7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E DISTANCE AND FINDING ONES ON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AL MILES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ITUDE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7vg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 TIME, SPEED AND D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60 MINUT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66135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7vg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DISTANCE AND FINDING ONES ON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TIME, SPEED AND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7vg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7vg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2000-06-27T15:38:11Z</cp:lastPrinted>
  <dcterms:modified xsi:type="dcterms:W3CDTF">2004-01-12T19:36:06Z</dcterms:modified>
  <cp:revision>48</cp:revision>
  <dc:subject/>
  <dc:title>INTRODUCTION</dc:title>
</cp:coreProperties>
</file>