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5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53600" y="2362320"/>
            <a:ext cx="625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MPORARY EY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5vg#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MAKING TEMPORARY EYES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5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, you will be able to demonstrate his/her knowledge of Temporary Ey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5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 and five check on learning ques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answer all check-on-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5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IZING WIRE 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SE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F SIEZING OF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ING THE T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OF THE INTENDED CUT MUST BE SE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5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2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S FOR SE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E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BEWEEN SE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TH OF THE SE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60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2560" y="62485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88K11A05vg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S FOR TEMPORARY EY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TEMPORARY E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SPACE BETWEEN THE WIRE ROPE CL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LENGTH OF THE WORKING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6248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88K11A05vg#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THE BOARD FOR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 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 ROPE CLIPS FORMING THE 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E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PLIERS AND NI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6248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88K11A05vg#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ZING WIRE 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S FOR SE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S FOR TEMPORARY E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5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27T15:08:50Z</cp:lastPrinted>
  <dcterms:modified xsi:type="dcterms:W3CDTF">2004-01-12T19:33:33Z</dcterms:modified>
  <cp:revision>43</cp:revision>
  <dc:subject/>
  <dc:title>INTRODUCTION</dc:title>
</cp:coreProperties>
</file>